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A28-0416-41CD-8143-DE409F4D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35E-6316-4DB8-B721-AC3FD721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3FB48-B9CD-4921-9454-5D221695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845E8-FA84-4916-B6E3-2C3AF4FB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548E8-F5D8-4287-AE11-0833DBD1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D97AF-9E1B-4311-AC51-F9F4C2DD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1D558-CCD8-4C89-AD03-D333BC1C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509DD-837F-4FB2-A7D9-6D33A8FC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9E373-876C-42F7-9026-B3987041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F5E91-AB78-47F0-A5B0-1C938571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EFE5E-575F-4F3F-92EE-0986A061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F6489-5386-4DB3-8CD1-4A3C9DBE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706-75A0-4E78-AD2E-9AD906EC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2EE31-738D-4389-A673-FC473681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711CE-13BD-432D-B897-96DE30C4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6803D-07DD-432B-89AD-A3012C1A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ED622-36D2-4633-9577-5CFD5B0B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CDA27-BE80-4DA3-8F2A-E978FB82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B8860-8C6B-41DB-B476-FB848097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14194-CD71-4FE8-A548-2126D9E6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05FED-E02C-4FB1-8A77-D12E9A92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2912B-81C6-4D39-8359-63AEEE0E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517BB-E01D-41AD-AF14-7A00D883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190-8C30-4971-B16C-2718D196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24194-18C2-4D12-89B6-B41ADBCB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1C1DA-A4F2-45FF-A9CA-54B16F75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0C72A-5B14-4946-80CA-3220A974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85E94-9E4E-4908-8E29-18231AD4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7EA18-8B4A-40C9-BE44-6FF6D9F0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A1D17-16D9-4D2C-AB7A-90AAF39E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7E3DE-AC56-472C-ADAB-4A9CE595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96035-F6BF-4A14-A979-328CD116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01D58-9D2E-4CC5-BB78-E1E55D0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91FBF-8323-463F-8906-37EF1782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DD4F-2359-45C7-8120-CBD406F2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2524B-E741-43FE-A96D-9EABA0A8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AAD95-67F0-4050-A663-E62B3E45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6FEB9-8E4E-4484-A5B4-3733A046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4FFF8-2B0C-481C-AE5E-7FFA6028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2CC91-7293-4BEE-A6AF-C0677E34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2B963-590B-4BB1-9ED2-D14CB57E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C4284-141F-4D0F-8774-D503A793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79C38-5B03-45A6-B50E-A2FE5563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AE84F-09E9-4DC6-A4B3-A87072D8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DE773-548E-40C6-84F8-EAFE285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A7F2-2ED9-4EF9-830C-4B9F1FA7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DAEC3-F87E-460C-8B1D-B9910B07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E4AB5-16D4-4B30-A711-58D81782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3A89A-7AA7-4EBC-964B-1C902390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039CE-7693-44A4-B409-5F479DA2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5C129-DE2D-4504-B710-5801C601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B7E57-338A-4635-AA78-CB14C4CD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1DF54-FB5F-4F16-B895-C948CFF6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DB3AE-AB46-4965-A173-E82D2024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E80A4-7986-4340-96CF-F331C55A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C3C9D-8519-4709-88CB-060EE862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4499-2F14-47CE-841F-58D54888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B3238-8201-468F-9A39-1AF13F7D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25DFD-90A3-4B9B-B20B-59C4A66C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2025B-07B5-49F6-BEC8-DF54BA9F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02D16-99D2-40C6-A212-1008AF5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4E81C-88FC-4EFC-845E-A721CFD7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B8D84-916D-4392-B0A6-44D11357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691BB-38CC-468F-9142-F46F6AEF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58019-FD26-4C4A-A268-1D903F42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0CD1A-8E93-47C7-A145-F3CCEC3E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93039-66CF-4532-B45A-FD9BA7A3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CB93-44F2-47E8-A4EE-B24B3E91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D6793-0BC4-43F1-AD66-E8E4FBD3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7EC12-EB69-40E4-B331-2539D8BE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7380E-D95B-47DE-9BEE-542099DA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08666-2239-44EE-B3EF-53C9C4D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CDCCB-A4D3-4998-BBCD-0AAAB36E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CFCC6-94CA-4C32-8620-213FD9B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C6D17-DBC3-4F8B-ADDE-62014783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78555-9358-4B3C-8231-775521D8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EB6D0-6132-4ACE-80DB-AB2CB4E5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38018B-2BF3-4155-AB3E-577BF253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CDAB-E5DC-45D5-BCF3-C647063B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179E2-0E2B-4162-A2A7-3502F4B1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27188-2530-40B9-9540-C1BAC377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16099-4130-413C-8753-9F05F3A5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119A0-F292-4E9A-AA1A-0A128C9A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45A68-2538-485E-B9AC-F077FE51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83A13-56E1-4EF3-96F4-AB3ABC95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2FEA1-7009-427F-8C1A-AFC5EBBB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5318E3-5CB3-4261-A07A-E8CA307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1128E-369E-4500-964C-D9D6C9C7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41E9E-CE4B-4975-9701-BA66E79E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4E16-A366-421A-A76E-0DD3CB76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09712-1F49-4153-8400-86E7E7DB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CFDC20-0070-481A-990A-23AA0618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638A7-BDCD-4351-A023-23B63426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AC649-4524-4E2F-B2B9-1F52DD22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4247C-E6DF-4E31-A4F2-D502F54D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6916B-CAE0-4E90-B941-337A954A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13BF2-42AB-40C3-AEC5-6A5BFEFC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700D2-9AF8-47A3-ABAF-F71E2D81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6B2EB0-00BA-4E2A-82DB-6FCAFECE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C83D8-337A-4D8C-8D40-6D189BEA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00DB-A4F6-4758-A363-E326F719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28F09A-8A1A-4344-AE90-1E34E4EE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DAB58-AB43-41BF-A8C3-1D528210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A62109-185D-4865-A1D3-2E97A969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EDA1DE-AB42-49D0-8D1D-5967DA6E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02139E-74E9-46D0-A80B-CD00F92B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5436E-1592-4FCB-AEBB-EC89732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FED0E-181C-41BB-ABFE-73264C81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4BDB5-605F-4940-B4F5-7C959FB7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7F4AF-BC66-4425-8578-46EA2F40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61B20-508E-49E5-9FB9-0F5D44C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A2A-3B57-4C5C-942D-A02AACBD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2A59-E38D-42D8-941E-4AFCD0A9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3A5C9-E398-45AF-81D6-DD022221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14755-5453-4B91-97F1-197973E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FC9BDC-4D5E-4747-9404-1E78A62E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DD338-951F-445C-A81B-A9FDD93F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A7222-2DB3-46C0-B698-0F4D5482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4691C-05A6-4A57-A80A-61B5D4C1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EDF62-1D99-4C4A-B5E1-4C5C156B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F3F38-587C-45E2-AE0C-B4D8D200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78C7E-7866-451A-A78B-B2D3C2DC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6EB08-93A3-4A34-9510-B70588DC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7273-A3DC-49A4-8B39-1A2086F2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197E79-5001-4C77-83A3-DAE28E11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771F30-989D-4BCF-ADBA-CE190CE0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D90546-0A04-44D3-A068-BC07DFB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08923-0451-41DD-86D5-729E07B2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81A2B-B8B1-457C-B70D-1299B793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5B6115-C6BA-4EF3-9958-14FC66C8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47D20-3CCE-4AF0-8ED8-5D7849A8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684A82-9D6E-45F0-9D03-B02AA178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9DF7AE-792A-46CC-AFD2-282F7DE6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C322E-1A0E-4501-A517-F7DBCE30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4EDA-42C2-41E9-8BC9-D62E0D4E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C61499-181B-4D32-9737-B984FB25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8DE92-8A8C-49D6-BDD5-BDFAD138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5DA29-E4F7-49CD-BE6C-FC7B128C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C202D9-F224-4AD1-BF0A-DDE5D081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1E779-8AA7-40BA-A6E8-6A45B909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8F32B0-FACF-4C86-8020-57559500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27578-1AF7-4736-A5AE-C8D73FCE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51A46-2A24-443E-AF04-A1FF6A28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0BCFC-293B-44B7-9451-17328827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CE37AB-73C8-4AEC-A461-BD57BFE1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F2E0-7CBB-4688-B9F6-D986C81D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FE669-1308-467E-ACE3-259308E6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92EC38-C6C4-4C18-BF7D-DE39DE3D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7BBE2-40DD-4357-808E-62D65188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31629D-D573-410C-BB06-12FA4F9F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8C01C-0748-4BB4-AFEC-4AC60626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C7832-0FBF-46D6-AA6C-00A1E79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70BB5D-D9FB-4F65-BD18-675C513D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D4D9FC-75C8-4B01-B665-5448DDA8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A3ABD3-1AEC-41DE-999A-9FA03B78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E73BC-FF2F-4CBB-B4DD-C695D9EA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1802-5C94-4BCB-8C98-9F3852C6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73E8A-5D28-4FEF-BC5C-3405A9C1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8BDF9A-5399-4A65-B2ED-5A152A9A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B967DE-514F-4B09-8A84-34F1847A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9574C-9CBB-47E9-AAA1-DB4BDEE2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B2FC6C-B6F3-4FD3-BAAD-FDE84E3E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47A32E-0B8F-46E6-B478-D562C1D3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D555E-69DB-4739-A88C-E9112F7D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7CE6AC-3D0D-4A59-A3F3-19DF1525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A4577D-6F85-474B-98EB-6D5AB940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993318-6982-47F8-A7BB-B19401D8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E199E-2B58-4919-BDDD-49F2B8A2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9D030D-CE69-4F63-B781-86EF7D2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BBDB7-C710-467B-8A6E-1A6FAA58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140CC7-2B74-4A15-9CE2-0BDE9496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877A-B1C2-4CD5-B9D5-08F5A84E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7B29-AD45-4D57-8CB8-0E0365B8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3B8B1-92E3-47C9-A219-1F78D5F0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490D-704A-4A62-A29D-1547B67D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395-7CCB-48D3-A0A6-3A8302FB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5362E-CA40-4293-ADA7-5D9EAAE1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FD55-D85F-414F-859A-2F6DD553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E54F-25CB-48B3-9EE7-E5F6A2D0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67DA-7A99-4C1E-A8C2-268C103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D131-2ECC-456E-BCCF-974823BB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309F-7E58-4974-93E0-051AEFDD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8294-83FE-4F7C-8D5C-DE6A0076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C84DD-D714-46CA-ABD0-2D6D12A3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4C92-85BA-4DD5-AC78-4BA61EB8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74FC-2CD9-49D3-BBFE-8D3DC100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A2E-7002-4BA3-9A83-7C764AED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19B6-2F3F-4059-95F6-5656B27F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43482-E04A-41F9-A5C1-89DBB9B4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FB4C-FA30-4C2B-B5F5-65640ED5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61DBD-CDA6-412B-8585-771BF705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D8E4-4841-4A00-92AE-E70DD255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D6FA5-A3F7-45E7-9E81-6D3D8EF2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22226-021F-4775-A43A-A9CA5B52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1EE3-550E-4B5F-A060-54EC657C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F50B4-F08D-4E61-8EB7-182251D6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5F4C4-0A81-4A0D-9181-5B80FF58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101-6253-4B86-BD17-B6CBBC31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BE378-14F8-4302-AFE1-778D69F1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14283-2451-40A4-A430-8D23E246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57CA6-CDEA-4A2F-9789-36DEBCCF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79408-F602-46AA-AD7E-656F2310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0931-5585-483E-954F-7DB560C7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BD69C-9B5C-4268-A4B1-50EEE56C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CDE2-0AFA-489B-98B2-98457BF4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E6A69-013F-4BBF-A779-4DB7B0BA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8AE6F-44B0-4C9F-8319-BA1466D3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9DA13-0842-4194-99CF-F5C64962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356-25EC-44D4-BE7A-6A17C237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8F54F-3189-4F60-9339-FC6771A2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5625E-D012-4161-9CC4-CCD2271A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A79F8-6B56-463F-AE70-89819222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323E0-F3F2-4874-A767-F35FA1B2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6250C-9552-4CAE-BCFC-928B8609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25C43-B181-4414-B45D-876BAB50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073E0-DA39-4619-A20F-E910C522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A4C26-9B65-4AAB-B7CC-25792B3F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70A81-01E5-41BD-BBB4-CAEE8DAD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F73E1-108E-41C7-8608-D9362C28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843-CA5E-42DC-824B-FBB14DBB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B63C1-F598-47BE-977A-C8A44019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0C68D-DF70-4556-8F57-F32F2CA6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C3B3B-AF8C-40BC-8AB7-F992C294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B75EB-485F-4CAF-B8A2-2042DE76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3BAAE-1D5B-4D84-94C4-1D109D5F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BB8DE-367F-4B69-93E7-7BF652B3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AF5C9-F881-4909-962D-30BBAE74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7CB51-5D75-4FFF-8CFF-1DA42B05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0DEAC-4D67-4D3B-BC38-A6245127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35F5F-2697-4C85-AC6E-B88DEE83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7CC-C196-4F93-9145-DEB9E29E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98126-449F-4533-A114-822B1801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3925-C324-42DE-84C4-855CCBF5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B7148-6E48-47A6-A735-E370F313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4B538-9B8C-490D-B22B-2C967CEC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755B4-44F2-4E5D-9D8E-9F7C36D2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FA585-1D63-47F6-9354-D1B8A24F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F1386-DC72-45F9-AF90-52B660DF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A043-7AA0-4909-9A49-BB2CF4A7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D41E0-EAF5-4952-929B-A39D69A8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1A13C-BFE2-48D5-A672-5C171E4E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9AF-6819-4E4D-B2F8-2E91322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7501B-FEE6-4649-B058-9446DC3F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27C4F-D827-40A9-A95B-CBE0B93C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ED218-DD4A-46B0-98AB-6D29B0B5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788F5-9CCE-4755-A8FC-E3FB547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4C678-FD45-4BEB-94CC-C60BF0A1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B81BE-E802-480E-B155-96744E3A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A66FA-6508-426C-B2F4-3C71519A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8AFD0-6A29-4F47-8E42-B0DAC865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33083-B2C9-4B0F-94F2-B48049EA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2EADB-F58F-434F-A988-AD7E2D01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462-B69F-4115-B2AE-767CBC832C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285F-FF8A-4D53-975A-7D5621CEEA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F056-4B89-4CB2-A7E9-F87B13D9EA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58C1-27CF-4919-A777-B494618C8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1A4F-8DC1-47D3-96F8-6BF60FA4D2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B34D-3DBD-4AAB-B706-80AAEA8138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B69C-38E1-4E42-A33B-B92F957D03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ADF5-DD07-4E09-9E57-60084F8C0B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2720-D947-4147-9995-2AB5A15D35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B3AE-E400-4A65-815E-3F7A11A839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841A-31E3-4F17-A83A-E70B8BA636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E8A0-53BA-42A2-B29D-421C11B49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8E82-FA54-4206-BD73-804D8F7ED6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E16F-8804-43EB-929E-68341750B9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9F19-8107-4388-823B-A078F7AE8A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0A42-D7B4-44BE-A1CC-44CF53016C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FBFD-4CDF-4E16-B425-78DCA00BCC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B5E9-8435-4EC2-AE16-E97789B93B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EA82-2A7C-4928-AA4E-B27EA70B51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D8D2-45D3-47F5-8657-E5EEC2AA03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7EAE-E99A-4E9B-B86E-9DD2A7981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6B1D-7135-48FE-97E0-2A2F30F659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AD39-7611-41C6-8F37-D2D18E7E3D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C019-CAA4-4045-8596-33EF43B249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F938-F3D8-42BC-BE1F-C8416FC20C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9BB1-C825-4C76-8054-749D6964B1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A38A-7A3F-498D-BED2-77D2DE386D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B1FE-D791-4774-980B-ACF94DA3EB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CAB-0716-4AEB-9DE8-133E4515A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4ADA-E168-47AC-9501-30F5F7372C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8CF9-EBBA-4BD5-9212-811A064063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5854-2C95-4AF4-B76E-540F816020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15DD-1F04-491E-981E-54C465BEC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83B0-1CD9-43E9-B861-8B3BE53603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70D5-0C92-410B-90C2-F86FB3684E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9AA6-13F6-4906-B065-F06D5B4172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70BD-ED4C-430A-AC49-9B1FE88748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A29C-98BF-43D8-B414-BD460F0140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2F31-CEE9-42B6-819F-DC887F4A2F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E0EE-57F1-4893-8071-8C3B12C0F6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071880" y="2995560"/>
            <a:ext cx="3000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69633" descr=""/>
          <p:cNvPicPr/>
          <p:nvPr/>
        </p:nvPicPr>
        <p:blipFill>
          <a:blip r:embed="rId1"/>
          <a:stretch/>
        </p:blipFill>
        <p:spPr>
          <a:xfrm>
            <a:off x="179280" y="3618000"/>
            <a:ext cx="8763120" cy="197172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69634" descr=""/>
          <p:cNvPicPr/>
          <p:nvPr/>
        </p:nvPicPr>
        <p:blipFill>
          <a:blip r:embed="rId2"/>
          <a:stretch/>
        </p:blipFill>
        <p:spPr>
          <a:xfrm>
            <a:off x="1187280" y="1208160"/>
            <a:ext cx="6715440" cy="1933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435600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4370400" y="22766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7308720" y="137016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7164360" y="22622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1735200" y="378936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8"/>
          <a:stretch/>
        </p:blipFill>
        <p:spPr>
          <a:xfrm>
            <a:off x="1763640" y="46958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9"/>
          <a:stretch/>
        </p:blipFill>
        <p:spPr>
          <a:xfrm>
            <a:off x="4716360" y="378936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0"/>
          <a:stretch/>
        </p:blipFill>
        <p:spPr>
          <a:xfrm>
            <a:off x="4716360" y="466740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1"/>
          <a:stretch/>
        </p:blipFill>
        <p:spPr>
          <a:xfrm>
            <a:off x="8317080" y="378936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2"/>
          <a:stretch/>
        </p:blipFill>
        <p:spPr>
          <a:xfrm>
            <a:off x="8388360" y="4681440"/>
            <a:ext cx="576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1357200"/>
            <a:ext cx="8601120" cy="4143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771640" y="3500280"/>
            <a:ext cx="648000" cy="865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885080" y="371628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132000" y="479736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351560" y="4581360"/>
            <a:ext cx="7495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352440" y="828720"/>
            <a:ext cx="8439120" cy="5200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2771640" y="2938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7093080" y="29242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2714760" y="3990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6832440" y="3990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2771640" y="5084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6977160" y="5084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447840" y="2424240"/>
            <a:ext cx="8248320" cy="200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2411280" y="3040200"/>
            <a:ext cx="936720" cy="3762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2411280" y="3443400"/>
            <a:ext cx="936720" cy="4032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2484360" y="3860640"/>
            <a:ext cx="936720" cy="4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671400" y="895320"/>
            <a:ext cx="7801200" cy="5067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2735280" cy="934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2735280" cy="935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1403280" y="4984920"/>
            <a:ext cx="2735280" cy="934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5105520" y="2781360"/>
            <a:ext cx="3570120" cy="934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5105520" y="3860640"/>
            <a:ext cx="3570120" cy="935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5176800" y="4984920"/>
            <a:ext cx="35704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1109520" y="1162080"/>
            <a:ext cx="6924960" cy="4533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258920" y="2521080"/>
            <a:ext cx="3313080" cy="879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258920" y="3573360"/>
            <a:ext cx="3313080" cy="879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1332000" y="4797360"/>
            <a:ext cx="3313080" cy="879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4932360" y="2463840"/>
            <a:ext cx="3313080" cy="879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4932360" y="3516480"/>
            <a:ext cx="3313080" cy="879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5005440" y="4581360"/>
            <a:ext cx="33130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5300" descr=""/>
          <p:cNvPicPr/>
          <p:nvPr/>
        </p:nvPicPr>
        <p:blipFill>
          <a:blip r:embed="rId1"/>
          <a:stretch/>
        </p:blipFill>
        <p:spPr>
          <a:xfrm>
            <a:off x="285840" y="262080"/>
            <a:ext cx="8572320" cy="6333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1258920" y="3341520"/>
            <a:ext cx="4608360" cy="879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826920" y="4437000"/>
            <a:ext cx="4608720" cy="879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900000" y="5516640"/>
            <a:ext cx="4608720" cy="520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826920" y="6064200"/>
            <a:ext cx="655344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252360" y="771480"/>
            <a:ext cx="8639280" cy="5315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187280" y="2836800"/>
            <a:ext cx="3313440" cy="879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3313080" cy="879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826920" y="4927680"/>
            <a:ext cx="3313440" cy="4460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684360" y="5589720"/>
            <a:ext cx="46083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2231" descr=""/>
          <p:cNvPicPr/>
          <p:nvPr/>
        </p:nvPicPr>
        <p:blipFill>
          <a:blip r:embed="rId1"/>
          <a:stretch/>
        </p:blipFill>
        <p:spPr>
          <a:xfrm>
            <a:off x="290520" y="285840"/>
            <a:ext cx="8562960" cy="62863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1332000" y="3341520"/>
            <a:ext cx="4608360" cy="879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4608360" cy="879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1042920" y="5518080"/>
            <a:ext cx="4608720" cy="4320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826920" y="6107040"/>
            <a:ext cx="66978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40:2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